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F2777-CC21-4651-9932-59A4FAB3D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B39DD-E809-43E4-93E2-ED19F2A7D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E752D-38A0-4F41-B17E-652FFDF19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ability to read and interpret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D3279-C5D6-45B0-9FD4-5F2867C73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42E39-C462-4189-B01A-79A37477E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Red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F35C0-37E1-4E53-8BE4-BF666A61B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laws of ex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BE0B9-038A-4057-BC0F-CE68B0247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preliminary understanding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96BBE-A377-4E97-AB72-1F302FD1A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tabular test for linearity and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079F3-53E5-467B-AEC4-9534B5A2B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se of units, conversion between growth factors and growth 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A842C-F851-4650-A314-879F52717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base and initial value in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F8C29-ADC6-4BA8-9194-0D7660AE0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nderstanding of half life and exponenti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nderstanding of half life and exponenti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AF500-5D42-4F75-8102-9FB306EA6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22A1B-5DC3-49DD-9BBC-ADB1BAB82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laws of common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7F618-82FC-4C39-B805-C8D3245E6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nderstanding of the interpretation of the average rate of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laws of exponential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347E9-F936-4DB5-B828-188384B9C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A2876-0165-424F-9592-0A77AF0C2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ll three graphs have the same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importance of scale in determining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AF8D2-8D16-4114-BBE1-A8FD92C80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88209-BC58-4538-B420-F5F10D6D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slope and inter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D1056-8C93-4236-82C7-670E559E9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s: B, C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interpretation of slope and inter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230D4-D5BB-4588-95FE-C55D484E1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 an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tabular test for linea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s: for 1)  A, B, and C and for 2) B an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proportionality test and linearity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1B7F5-47F9-488D-A2B9-4AFCF652A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00C65-8714-4AD4-8B97-82F44486E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interpretation of slope and inter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2F9-E972-4933-B902-4968623F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E92-0C70-40BD-A59F-12620AAA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94E-EFDC-41AA-9821-4FAE1669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A43-EF6F-4578-9FEA-A35459D2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5A9-C3C3-4475-A59E-47B82137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7BEB-DD7D-440C-AF57-868ADB6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C54-1658-46DD-85F8-2D38718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0F94-A3F6-4BFA-9CEC-5C24D017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A9A-40D4-4570-959E-C8F9C2F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49C2-7054-48FE-A229-E04737D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ECFF-34D2-462B-8DB3-39E4CAA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B72-A115-4F96-B931-360C2E6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4A19-3705-4AD2-847D-0FDA48B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BEA4-8895-406B-A726-57EB868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CF6-C0FD-4373-8277-6694B7C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0B01-8161-4D97-98CF-8BBDFA85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BD4-8288-41F2-8307-020F8769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557A-9551-4E31-A816-D8B0E85C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6BF2-A4EA-4B62-A3CA-365057A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BF97-E327-4CAE-8F2C-A4CD84B3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8288-5E85-4B76-9BF7-6A1E05A8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C8E4-FC4D-4A18-814C-97421D5E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637-12F8-4A0A-99BA-4A357E1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840B-E4F6-4B05-8CA1-266D387D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F0E9-5BC3-4127-830B-A74B57B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B7AA-0296-4CFD-A5F3-CB822AD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7A4F-45EB-4976-9266-39459FA3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DC5B-9537-413C-AF28-6DD9F95E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67AE-72D1-4E8C-B471-81DBE2AA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BDE2-5709-40DB-B8CA-0094E211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44D3-D358-4C94-A05E-C64CEC9A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CDCE-1F83-48DB-B6C7-0CFE4F5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570A-A0E1-47C9-8546-A852F3A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99B-B9C8-4295-91CD-EFCB6E9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4C85-7E73-4892-986C-665E27E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0BD4-9B7E-4EA1-86EA-AC8ADEEC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F967-EEA5-481A-BF57-D5BF837A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4A32-E64A-4BAA-B094-474A1AEB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7B20-78D3-46AD-AE00-9B4D6374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2AAA-F1B6-41AC-872D-03E6006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D394-3E32-48C5-8B85-FD2D3DE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B938-4E49-4B12-BCB8-20806770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6050-7F19-456D-A916-C945DED6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069-0C63-4BC8-81E3-A23BB42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A06-9537-4A9C-B030-7F79C5CE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1BD-EBE4-4A08-90EE-55388DA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36B-A156-41A8-917B-21EBF88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6C6-C1CE-439B-AD0A-09B5B64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9FF54-C727-48B1-909D-4614CAE2B5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C8271-FB56-48CA-9441-9D7201F83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7EF1C-E045-485B-83A2-5F2F595CE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B9550-DF46-4345-9280-0F088CDA1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B1001-6844-4A97-A3F2-CCD5D03B9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Bill Moore</cp:lastModifiedBy>
  <dcterms:modified xsi:type="dcterms:W3CDTF">2011-03-07T18:45:23Z</dcterms:modified>
  <cp:revision>3</cp:revision>
  <dc:subject/>
  <dc:title>Concept Test</dc:title>
</cp:coreProperties>
</file>